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AD044-E7FB-4410-9157-4394C81755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F48B9-E1F6-4BE0-A766-495FEC23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4226-C152-48B4-A971-D20D05E9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812C7-80AA-4939-9A73-8F3FC50692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1FE94-6F73-4A73-91AD-27DFF991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2A89-2B21-46D1-BE02-19445522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8BA07-C88B-46FD-B5EB-4A9CBE4D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E7CF4-9012-4337-9A56-07391FB0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608AA-1F62-4FF4-A226-C3A20B6A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380A8-5470-459D-95BE-39293B6D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2AB31-808E-48D8-B84C-4263221F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DF67-04C4-45B7-AE88-FD982346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FAC3-8076-4848-ACBF-36DB65D3254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儿童少年期精神障碍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050920" y="1773360"/>
            <a:ext cx="5059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家长对患儿疾病的认识情况及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专人照顾患儿，家庭关系是否融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经济条件如何，接受特殊教育有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可利用的社会资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水平低下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智能发育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智力水平低、语言发育障碍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角色冲突 与患儿需要照顾、不能接受患儿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害的危险 与认知功能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699920"/>
            <a:ext cx="8299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饮食、养成良好的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交往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99640" y="1628640"/>
            <a:ext cx="68598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劳动和职业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属认识到家庭教育的重要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家长正确认识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导家长积极参与教育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儿童孤独症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孤独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utis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一种起病于婴幼儿期，以社会交往障碍、语言发育障碍，兴趣狭窄、行为方式刻板为主要特征的广泛性发育障碍，多伴有精神发育迟滞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611280" y="1368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1571760" y="1571760"/>
            <a:ext cx="5715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交往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语言交流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兴趣范围狭窄和行为方式刻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智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神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孤独症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常用的量表有：孤独症行为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tism behavior checkl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儿童期孤独症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ildhood autism rating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克氏孤独症行为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ancy autism behavior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B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躯体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否患有躯体疾病、有无皮肤完整性受损、评估身体发育指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检查 评估患儿在感知觉、思维、情感和动作与行为等多方面的发育有无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包括颅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R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脑电图等特殊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训练 教育训练是治疗儿童孤独症最有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 目前尚无治疗孤独症的特效药物，如果患儿伴随的精神、神经症状明显，影响到日常生活，可使用药物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915920"/>
            <a:ext cx="9936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发育迟滞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二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孤独症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三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详细了解母孕期有无病毒感染、产程和生产方式，患儿有无宫内窒息和脑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否依恋父母，有无回避与他人的目光接触，是否与小朋友交往、玩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言发育如何，是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还无法说出有意义的词、句，不会使用代词，是否缺乏肢体语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趣范围和行为表现如何，是否对某些非玩具性的物体感兴趣，是否保持固有的日常生活行为，有无重复刻板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智力发育如何，生活能否自理；有无学习或运动技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4920" y="2133720"/>
            <a:ext cx="844380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 仔细了解家族中是否有患类似疾病的患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有无患过其他躯体疾病，有无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家庭成员特别是父母对疾病的认识程度及对患儿的态度，主要照顾者的情况如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庭的经济状况如何，接受特殊教育训练有无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无家庭无法实施治疗方案的可能，是否有可利用的社会资源等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社交功能缺陷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语言发育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低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自理缺陷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71720" y="1356840"/>
            <a:ext cx="784368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正常的生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交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矫正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注意缺陷与多动障碍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ttention deficit and hyperactive disord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起病于儿童和少年期，以明显的注意力不集中和注意持续时间短暂、活动过度与冲动为主要临床表现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缺陷 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主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过多和冲动学习困难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部分患儿可出现神经系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关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评定常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nne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（父母问卷、教师用评定量表和简明症状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ut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问卷（父母和教师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enbach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642680"/>
            <a:ext cx="8558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 主要采用行为治疗和认知行为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管理和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师和家长需要针对患儿的特点进行教育，避免歧视、体罚或其他粗暴的教育方法，以免加重患儿的精神创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剂 是主要治疗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甲肾上腺素能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480" y="1643040"/>
            <a:ext cx="85582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家庭环境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无患其他躯体疾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理社会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评估家长对患儿疾病的认识及态度如何，有无因疾病引起家庭矛盾和危机，家庭结构稳定性如何，父母教养方式如何，学校老师对待患儿的态度如何，是否能够采取一定的干预措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856880"/>
            <a:ext cx="8504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儿童少年期精神障碍具有的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精神发育迟滞、孤独症、注意缺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多动障碍患者的主要临床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儿童少年期精神障碍的相关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活动过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注意缺陷、多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亲子角色冲突 与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静的住院环境，尽量避免可引起分散注意力的刺激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全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儿行为冲动不顾后果、喜欢冒险，应注意观察病情，严防病情变化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先要理解和尊重患儿，不因为患儿存在多动、冲动等症状而过分约束或斥责患儿，与患儿建立良好的护患关系，并争取家长的合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密切观察服药情况，以及服药后的效果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000" y="2133720"/>
            <a:ext cx="8155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注意缺陷与多动症的安全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比较精神发育迟滞与儿童孤独症临床特征的异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不同等级精神发育迟滞患儿的教育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213920"/>
            <a:ext cx="8321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与儿童少年期精神障碍发病有关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儿童少年期精神障碍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识别不同等级的精神发育迟滞的智商水平和心理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归纳出精神发育迟滞、孤独症及注意缺陷与多动障碍患者临床特征的异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神发育迟滞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ental retard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组起病于中枢神经系统发育成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以前，以智力发育低下和社会适应困难为临床特征的精神障碍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18920" y="1125000"/>
            <a:ext cx="41958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轻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极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1413000"/>
            <a:ext cx="6283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智商和生长发育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社会适应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常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病因查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级预防措施：做好婚前检查、孕期保健和计划生育，减少遗传性疾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级预防措施：运用儿童发育心理学知识与技术，对婴幼儿定期进行检查，尤其对早产儿、低体重儿等高危儿进行定期访视，做到早期发现、早期干预；对社会心理因素为主要原因的精神发育迟滞儿童，及时进行强化教育训练；积极防治各类精神发育迟滞儿童的情绪与行为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级预防措施：减少残疾，提高补偿能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的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教育训练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为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数需要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10T02:39:04Z</dcterms:modified>
  <cp:revision>9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